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8C5-E134-48AF-9A1E-2CEEB7E9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413-61E8-4431-BF0B-9CC4ED46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B355-C7B0-4361-8AD6-B787E8DB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ECF-9B25-4C03-A058-712C9470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3BD-26AE-4853-BD2B-6B2E8DA4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410-B35F-4D96-A825-48552688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610-D46F-4BC4-9F7C-603F7DC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6E2-E08E-4A32-A176-B071F500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0AF-931B-4786-BC1B-984D4676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58E-91B4-42A2-AE19-FBCECF0B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EECB-B67A-4DAF-94BA-B4BEBDE9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B15-ECBF-4D3D-83D1-98D5BDB9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C05D-6439-4C35-977B-9B05FB9695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ixflags.com/parks/Rides/list.asp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reat Adventure at Six Fla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ing a day at the 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b Ew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e W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n Zaczepinsk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on Dubro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s van H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2233440" cy="3457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decided which rides to ride and in which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e quality is judged by speed and 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also decide when to eat lu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786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 = Kicks Ass – Su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cks Ass = Speed + H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ks = Waiting + Pu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87840" y="1143000"/>
            <a:ext cx="3446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does not have the money for “Fast Lane” up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will only ride “Thrill”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ride Superman and Ni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straints Continu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won’t ride any ride more than tw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must eat lunch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has a moderate threshold of pain for wa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ran can only ride one ride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32320" y="1447920"/>
            <a:ext cx="3125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ary Solver…some non-linearit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Maxima, may not be true optim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 times vary throughout th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881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cal Maxi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71880"/>
            <a:ext cx="6553080" cy="3314520"/>
          </a:xfrm>
          <a:custGeom>
            <a:avLst/>
            <a:gdLst/>
            <a:ahLst/>
            <a:rect l="l" t="t" r="r" b="b"/>
            <a:pathLst>
              <a:path w="4128" h="2088">
                <a:moveTo>
                  <a:pt x="0" y="1032"/>
                </a:moveTo>
                <a:cubicBezTo>
                  <a:pt x="124" y="1424"/>
                  <a:pt x="248" y="1816"/>
                  <a:pt x="384" y="1656"/>
                </a:cubicBezTo>
                <a:cubicBezTo>
                  <a:pt x="520" y="1496"/>
                  <a:pt x="696" y="144"/>
                  <a:pt x="816" y="72"/>
                </a:cubicBezTo>
                <a:cubicBezTo>
                  <a:pt x="936" y="0"/>
                  <a:pt x="992" y="1136"/>
                  <a:pt x="1104" y="1224"/>
                </a:cubicBezTo>
                <a:cubicBezTo>
                  <a:pt x="1216" y="1312"/>
                  <a:pt x="1328" y="520"/>
                  <a:pt x="1488" y="600"/>
                </a:cubicBezTo>
                <a:cubicBezTo>
                  <a:pt x="1648" y="680"/>
                  <a:pt x="1856" y="1688"/>
                  <a:pt x="2064" y="1704"/>
                </a:cubicBezTo>
                <a:cubicBezTo>
                  <a:pt x="2272" y="1720"/>
                  <a:pt x="2536" y="656"/>
                  <a:pt x="2736" y="696"/>
                </a:cubicBezTo>
                <a:cubicBezTo>
                  <a:pt x="2936" y="736"/>
                  <a:pt x="3112" y="1856"/>
                  <a:pt x="3264" y="1944"/>
                </a:cubicBezTo>
                <a:cubicBezTo>
                  <a:pt x="3416" y="2032"/>
                  <a:pt x="3504" y="1200"/>
                  <a:pt x="3648" y="1224"/>
                </a:cubicBezTo>
                <a:cubicBezTo>
                  <a:pt x="3792" y="1248"/>
                  <a:pt x="4048" y="1944"/>
                  <a:pt x="4128" y="2088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2971800"/>
            <a:ext cx="8380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2040" y="24382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Maxi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514600" y="1905120"/>
            <a:ext cx="83808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37920" y="14842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obal Maxim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olutionary Solver…some non-linearit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Maxima, may not be true optimal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 times vary throughout th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48816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: Inpu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4722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Model Continu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57200" y="1633680"/>
            <a:ext cx="8229600" cy="4459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o Optimize the Day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903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Decision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our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our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3814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equence of Rid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merican Scream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ull Mou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naway Mine T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equence Continu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naway Mine Train (Enc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ling Thu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man &amp; R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uran Should…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on all rides o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Stunt Man Freefall (Too Much Puking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ide on the Runaway Mine Train twi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3814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xtensio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travel time between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all available park att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 movement through the park to back test Solver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2517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Questions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896" r="3332" b="0"/>
          <a:stretch/>
        </p:blipFill>
        <p:spPr>
          <a:xfrm>
            <a:off x="228600" y="1143000"/>
            <a:ext cx="883908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Park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des That Ro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man Ultimate F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nly coaster of its kind in the Northe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a pretzel-shaped, inverted loop  and 360 degree in-line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60 mph and goes to a height of 11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s more than 3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381040" cy="203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2361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20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7 relentless hills, steep drops and sharp curves on more than a mile of twisted ste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80 mph and goes to a height of 23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 4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5257800" cy="1498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255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202716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man the R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199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ins ride on the outside, not the inside of each of the l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two vertical outside loops, two outside helixes and a zero gravity rol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50 mph and goes to a height of 105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 2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2057400" cy="2146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943600" y="2057400"/>
            <a:ext cx="2381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51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d in Spring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floorless coaster 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car without chassis or body, floorless chair on top of tr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reaches 61 mph and goes to a height of 142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de last 3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46080"/>
            <a:ext cx="4340160" cy="173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324480" y="2209680"/>
            <a:ext cx="23814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ides That Suc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7524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2920" y="33526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238880" y="5105520"/>
            <a:ext cx="1400400" cy="1400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1600200"/>
            <a:ext cx="6400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rides are for those shorter than 54” or with den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hanted Teac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 fast asleep as you spin and rotate in these colorful teac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Wh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150-foot Ferris wheel offers views of the park and natural woodland landscape. Sc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semite Sam'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ight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ke planes go around in a circle. Fun for all ag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blem Definition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Juran is planning a day at Six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 is open for 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s as much fun as possible for his allowance doll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not pay any extra amounts for r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6:09Z</dcterms:created>
  <dc:creator>Stern School</dc:creator>
  <dc:description/>
  <dc:language>en-US</dc:language>
  <cp:lastModifiedBy>Stern School</cp:lastModifiedBy>
  <dcterms:modified xsi:type="dcterms:W3CDTF">2003-05-08T00:56:12Z</dcterms:modified>
  <cp:revision>21</cp:revision>
  <dc:subject/>
  <dc:title>Great Adventure at Six Flags</dc:title>
</cp:coreProperties>
</file>